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6.png" ContentType="image/png"/>
  <Override PartName="/ppt/media/image45.wmf" ContentType="image/x-wmf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72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55.wmf" ContentType="image/x-wmf"/>
  <Override PartName="/ppt/media/image15.png" ContentType="image/png"/>
  <Override PartName="/ppt/media/image20.wmf" ContentType="image/x-wmf"/>
  <Override PartName="/ppt/media/image57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66.wmf" ContentType="image/x-wmf"/>
  <Override PartName="/ppt/media/image65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4.wmf" ContentType="image/x-wmf"/>
  <Override PartName="/ppt/media/image61.wmf" ContentType="image/x-wmf"/>
  <Override PartName="/ppt/media/image3.wmf" ContentType="image/x-wmf"/>
  <Override PartName="/ppt/media/image33.wmf" ContentType="image/x-wmf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52.wmf" ContentType="image/x-wmf"/>
  <Override PartName="/ppt/media/image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 - </a:t>
            </a:r>
            <a:fld id="{4791524B-B865-4C62-B856-FE5C0F016549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 - </a:t>
            </a:r>
            <a:fld id="{7FC18C0F-5920-4599-84D0-38197C49D4D2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3.wmf"/><Relationship Id="rId1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2.wmf"/><Relationship Id="rId1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2.wmf"/><Relationship Id="rId1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Polynomial and Rational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19320" y="12193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11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zeros of the polynomial function and state the multiplicity of each.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025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7920" y="4464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244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, multiplicity 3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zeros of the polynomial function and state the multiplicity of each.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025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4464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–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244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, multiplicity 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3, multiplicity 3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ultiplicit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nd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nd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betwee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nd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between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122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use the intermediate value theorem to determine which interval contains a zero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97160" y="32385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181480" y="38098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5181480" y="38098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362320"/>
            <a:ext cx="8077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Functions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ng Polynomi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Division; The Remainder and Factor Theor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s about Zeros of Polynomi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and Rational Inequ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40384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–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–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ng division to find the quotient and remainder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009880" y="2114640"/>
          <a:ext cx="354636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9880" y="2114640"/>
                    <a:ext cx="3546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009880" y="3321000"/>
          <a:ext cx="3547800" cy="52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9880" y="3321000"/>
                    <a:ext cx="35478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009880" y="4603680"/>
          <a:ext cx="3581280" cy="5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9880" y="4603680"/>
                    <a:ext cx="3581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009880" y="5772240"/>
          <a:ext cx="374472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9880" y="5772240"/>
                    <a:ext cx="3744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ng division to find the quotient and remainder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009880" y="2114640"/>
          <a:ext cx="354636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9880" y="2114640"/>
                    <a:ext cx="3546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009880" y="3321000"/>
          <a:ext cx="3547800" cy="52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9880" y="3321000"/>
                    <a:ext cx="35478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009880" y="4603680"/>
          <a:ext cx="3581280" cy="5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9880" y="4603680"/>
                    <a:ext cx="3581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009880" y="5772240"/>
          <a:ext cx="374472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9880" y="5772240"/>
                    <a:ext cx="3744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371600" y="2178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763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the quotient and remainder when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75040" y="2114640"/>
          <a:ext cx="341604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2114640"/>
                    <a:ext cx="3416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75040" y="4635360"/>
          <a:ext cx="201744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4635360"/>
                    <a:ext cx="201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075040" y="5772240"/>
          <a:ext cx="2962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5772240"/>
                    <a:ext cx="2962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75040" y="3397320"/>
          <a:ext cx="270180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3397320"/>
                    <a:ext cx="2701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763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the quotient and remainder when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 is divi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075040" y="2114640"/>
          <a:ext cx="3416040" cy="52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2114640"/>
                    <a:ext cx="3416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2075040" y="4635360"/>
          <a:ext cx="201744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4635360"/>
                    <a:ext cx="201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075040" y="5772240"/>
          <a:ext cx="2962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5772240"/>
                    <a:ext cx="2962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075040" y="3397320"/>
          <a:ext cx="270180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3397320"/>
                    <a:ext cx="2701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371600" y="2178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1522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determine which number is a zer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1522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determine which number is a zero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5607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1797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3016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104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synthetic division to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y the polynomi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quadr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li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quar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cu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1797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1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3016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104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synthetic division to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5530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determine which number is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thetic division to find determine which number is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4540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a polynomial function of degree 5 with rational coefficients 4,        and 3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zeros. Find one other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426360" y="520560"/>
          <a:ext cx="647640" cy="5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6360" y="520560"/>
                    <a:ext cx="647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981080" y="2133720"/>
          <a:ext cx="800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33720"/>
                    <a:ext cx="800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a polynomial function of degree 5 with rational coefficients 4,        and 3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zeros. Find one other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2178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426360" y="520560"/>
          <a:ext cx="647640" cy="5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6360" y="520560"/>
                    <a:ext cx="647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981080" y="2133720"/>
          <a:ext cx="800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133720"/>
                    <a:ext cx="800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polynomial function of lowest degree with rational coefficient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nd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some of its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160720" y="1949400"/>
          <a:ext cx="37414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720" y="1949400"/>
                    <a:ext cx="3741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160720" y="3168720"/>
          <a:ext cx="384012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0720" y="3168720"/>
                    <a:ext cx="3840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160720" y="4387680"/>
          <a:ext cx="3840120" cy="5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0720" y="4387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160720" y="5530680"/>
          <a:ext cx="3840120" cy="55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0720" y="5530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1873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92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polynomial function of lowest degree with rational coefficients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nd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some of its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160720" y="1949400"/>
          <a:ext cx="3741480" cy="5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720" y="1949400"/>
                    <a:ext cx="3741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1447920" y="5607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160720" y="3168720"/>
          <a:ext cx="3840120" cy="55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0720" y="3168720"/>
                    <a:ext cx="3840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160720" y="4387680"/>
          <a:ext cx="3840120" cy="5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0720" y="4387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2160720" y="5530680"/>
          <a:ext cx="3840120" cy="552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60720" y="5530680"/>
                    <a:ext cx="3840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1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133720" y="1876320"/>
          <a:ext cx="3571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76320"/>
                    <a:ext cx="3571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13372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19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447920" y="4390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31719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56102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1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133720" y="1876320"/>
          <a:ext cx="3571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76320"/>
                    <a:ext cx="3571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133720" y="5460840"/>
          <a:ext cx="35712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5460840"/>
                    <a:ext cx="3571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371600" y="454356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3 or 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 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2 or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negative real zeros does Descartes’ rule of signs indic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ify the polynomial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quadr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li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quar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cu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2068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, 3 or 1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 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2 or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3880" y="460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negative real zeros does Descartes’ rule of signs indic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6 h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71600" y="763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133720" y="1996920"/>
          <a:ext cx="358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96920"/>
                    <a:ext cx="358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2133720" y="3233880"/>
          <a:ext cx="35532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233880"/>
                    <a:ext cx="355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2133720" y="4511520"/>
          <a:ext cx="583920" cy="94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4511520"/>
                    <a:ext cx="5839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763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ational zeros theorem to determine which number cannot be a zero of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133720" y="1996920"/>
          <a:ext cx="35856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996920"/>
                    <a:ext cx="3585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2133720" y="3233880"/>
          <a:ext cx="355320" cy="94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233880"/>
                    <a:ext cx="355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2133720" y="4511520"/>
          <a:ext cx="583920" cy="94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4511520"/>
                    <a:ext cx="5839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1724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447920" y="4162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2943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47920" y="5381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ical asymptot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057400" y="5305320"/>
          <a:ext cx="11095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05320"/>
                    <a:ext cx="11095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324480" y="304920"/>
          <a:ext cx="261648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04920"/>
                    <a:ext cx="2616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1724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47920" y="4162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943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5381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43000" y="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ical asymptot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057400" y="5305320"/>
          <a:ext cx="110952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05320"/>
                    <a:ext cx="11095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1371600" y="30956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324480" y="304920"/>
          <a:ext cx="261648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04920"/>
                    <a:ext cx="26164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746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44132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4876920" y="417204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1066680" y="417204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4876920" y="16700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1066680" y="1670040"/>
            <a:ext cx="2381400" cy="238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2" name=""/>
          <p:cNvGraphicFramePr/>
          <p:nvPr/>
        </p:nvGraphicFramePr>
        <p:xfrm>
          <a:off x="3263760" y="457200"/>
          <a:ext cx="313704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63760" y="457200"/>
                    <a:ext cx="313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15836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1746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33520" y="44132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4876920" y="417204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1066680" y="417204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4876920" y="16700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1066680" y="167004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114800" y="44132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3263760" y="457200"/>
          <a:ext cx="3137040" cy="9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63760" y="457200"/>
                    <a:ext cx="313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5836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33520" y="4267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4952880" y="4191120"/>
            <a:ext cx="2381400" cy="23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"/>
          <p:cNvGraphicFramePr/>
          <p:nvPr/>
        </p:nvGraphicFramePr>
        <p:xfrm>
          <a:off x="3200400" y="457200"/>
          <a:ext cx="2603520" cy="101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457200"/>
                    <a:ext cx="2603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15710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523880" y="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graph represents th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533520" y="4267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16002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4952880" y="4191120"/>
            <a:ext cx="2381400" cy="23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3200400" y="457200"/>
          <a:ext cx="2603520" cy="101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457200"/>
                    <a:ext cx="2603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1571040" y="6397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447920" y="170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47920" y="4138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29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535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0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075040" y="1776240"/>
          <a:ext cx="27050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1776240"/>
                    <a:ext cx="2705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2075040" y="2995560"/>
          <a:ext cx="258732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2995560"/>
                    <a:ext cx="2587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2075040" y="4290840"/>
          <a:ext cx="2941560" cy="5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4290840"/>
                    <a:ext cx="294156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075040" y="5433840"/>
          <a:ext cx="290160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433840"/>
                    <a:ext cx="29016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leading coefficient of the polynomial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447920" y="170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447920" y="4138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29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5357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523880" y="10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2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075040" y="1776240"/>
          <a:ext cx="27050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5040" y="1776240"/>
                    <a:ext cx="2705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2075040" y="2995560"/>
          <a:ext cx="258732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5040" y="2995560"/>
                    <a:ext cx="2587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2075040" y="4290840"/>
          <a:ext cx="2941560" cy="5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5040" y="4290840"/>
                    <a:ext cx="294156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2075040" y="5433840"/>
          <a:ext cx="290160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5040" y="5433840"/>
                    <a:ext cx="29016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47920" y="54338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447920" y="1749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1447920" y="418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47920" y="296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47920" y="540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149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2027160" y="1494000"/>
          <a:ext cx="2770200" cy="116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494000"/>
                    <a:ext cx="27702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027160" y="2712960"/>
          <a:ext cx="1216080" cy="12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12960"/>
                    <a:ext cx="121608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027160" y="4008600"/>
          <a:ext cx="1254240" cy="124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08600"/>
                    <a:ext cx="12542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027160" y="5151600"/>
          <a:ext cx="1255680" cy="12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151600"/>
                    <a:ext cx="12556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447920" y="1749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447920" y="418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96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540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23880" y="149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027160" y="1494000"/>
          <a:ext cx="2770200" cy="116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494000"/>
                    <a:ext cx="27702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2027160" y="2712960"/>
          <a:ext cx="1216080" cy="12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12960"/>
                    <a:ext cx="121608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027160" y="4008600"/>
          <a:ext cx="1254240" cy="124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08600"/>
                    <a:ext cx="12542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2027160" y="5151600"/>
          <a:ext cx="1255680" cy="12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151600"/>
                    <a:ext cx="125568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1371600" y="434016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103480" y="1679400"/>
          <a:ext cx="149868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3480" y="1679400"/>
                    <a:ext cx="14986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895480" y="152280"/>
          <a:ext cx="164016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152280"/>
                    <a:ext cx="16401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103480" y="2898720"/>
          <a:ext cx="155880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3480" y="2898720"/>
                    <a:ext cx="15588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2103480" y="4194000"/>
          <a:ext cx="290520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4194000"/>
                    <a:ext cx="2905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2103480" y="5349960"/>
          <a:ext cx="1498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03480" y="5349960"/>
                    <a:ext cx="1498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103480" y="1679400"/>
          <a:ext cx="149868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3480" y="1679400"/>
                    <a:ext cx="14986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2895480" y="152280"/>
          <a:ext cx="164016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152280"/>
                    <a:ext cx="16401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103480" y="2898720"/>
          <a:ext cx="155880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3480" y="2898720"/>
                    <a:ext cx="15588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03480" y="4194000"/>
          <a:ext cx="290520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4194000"/>
                    <a:ext cx="2905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103480" y="5349960"/>
          <a:ext cx="1498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03480" y="5349960"/>
                    <a:ext cx="1498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1371600" y="19051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447920" y="1809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447920" y="4248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029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5467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20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027160" y="1554120"/>
          <a:ext cx="302436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554120"/>
                    <a:ext cx="30243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027160" y="2773440"/>
          <a:ext cx="1451160" cy="124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73440"/>
                    <a:ext cx="14511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2027160" y="4095720"/>
          <a:ext cx="306072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9572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2027160" y="5315040"/>
          <a:ext cx="306072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31504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447920" y="1809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447920" y="4248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3029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67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20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2027160" y="1554120"/>
          <a:ext cx="302436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1554120"/>
                    <a:ext cx="30243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2027160" y="2773440"/>
          <a:ext cx="1451160" cy="124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2773440"/>
                    <a:ext cx="14511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1397160" y="55562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027160" y="4095720"/>
          <a:ext cx="306072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7160" y="409572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027160" y="5315040"/>
          <a:ext cx="3060720" cy="116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7160" y="5315040"/>
                    <a:ext cx="306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231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2073240" y="1679400"/>
          <a:ext cx="15606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3240" y="1679400"/>
                    <a:ext cx="15606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2913120" y="79200"/>
          <a:ext cx="160488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3120" y="79200"/>
                    <a:ext cx="16048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2073240" y="2898720"/>
          <a:ext cx="106992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898720"/>
                    <a:ext cx="10699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2073240" y="4194000"/>
          <a:ext cx="269244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3240" y="4194000"/>
                    <a:ext cx="2692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2073240" y="5349960"/>
          <a:ext cx="1039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3240" y="5349960"/>
                    <a:ext cx="1039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447920" y="1832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447920" y="427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305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489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2318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073240" y="1679400"/>
          <a:ext cx="15606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3240" y="1679400"/>
                    <a:ext cx="15606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1371600" y="31273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913120" y="79200"/>
          <a:ext cx="160488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3120" y="79200"/>
                    <a:ext cx="16048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2073240" y="2898720"/>
          <a:ext cx="106992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898720"/>
                    <a:ext cx="106992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2073240" y="4194000"/>
          <a:ext cx="2692440" cy="97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3240" y="4194000"/>
                    <a:ext cx="2692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2073240" y="5349960"/>
          <a:ext cx="10396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3240" y="5349960"/>
                    <a:ext cx="10396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leading coefficient of the polynomial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464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degree of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degree of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873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92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025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graph represents the polynomial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19320" y="12193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5-23T13:38:51Z</dcterms:modified>
  <cp:revision>224</cp:revision>
  <dc:subject/>
  <dc:title>No Slide Title</dc:title>
</cp:coreProperties>
</file>